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273-E7DD-496D-BA22-8D692C6C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5550-61EB-4015-B5A3-5667862649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8ED-B18F-4235-A2DA-4F0284BF72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B1D-6406-43F3-AFC0-97146C3621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107A-7375-4AA5-9584-0B342F0CF1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ABB-65CB-4633-9ACA-45863B6322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E25-C54F-4F7D-99CF-C74D08683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29C2-7A6B-461C-AF3F-C1DB667EB6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4EA3-5ACF-4C5E-AF78-D2E19D6476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8D23-BB50-401A-B255-C52F6061A1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188-4A9D-49D0-913C-3810E132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FD8-D5B2-4BFC-B9BB-9D93AB5A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92E-D5D0-4095-B26B-01E0AD20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610-3143-4F7C-8F91-9F1AA00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FEB-F089-48D6-A47A-76E85C9A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AA9-F541-4929-9112-97D79F4C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4365-4B93-4F6B-9C8C-E883D981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484-D8E3-4CA9-846C-71F56A0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78B-17CD-4FE7-BEE0-CBF7999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47D-E74A-4111-AE6B-CC582E4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BAF-048A-49AD-98B5-153190E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7EB-81BB-4BC1-9F64-44F0BFC9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302B-983D-4ED0-BA1B-0E196F6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803-B3A5-4DE2-BE08-EDA7361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3E4F-450E-4789-9759-BDEBDD88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6DEB-6278-4FE7-A5E0-4B568660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C8E-A660-4869-9C52-7E93ECA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0F73-4930-4ABD-999D-649890E3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E223-8D29-4CBF-B9AF-FA8E0AC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3430-918B-480F-BFBF-39CA33F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098B-3A71-47E7-9245-E793C67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C88F-4699-4D4E-8AAB-E4EDAE19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F9C-DD2B-4FB6-9C92-68DF07DA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864C-968E-4FFE-A20D-55D02F6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0636-A1D5-4CDF-8583-B7288C1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7CA9-B9B6-498C-9D66-FF8C292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0FDA-C168-4FFC-B2BD-96682CE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B2D0-79FA-4D63-B6B8-4EEE4DE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465F-5327-4EFD-9E7F-DCCDFE0C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514F-9A42-4E3E-B155-E1491AD0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D264-B341-424E-984D-91145BE6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2E3D-C264-45F2-8FDF-E6DB24B4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5C46-B796-41F1-A688-050C8CC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566-C924-42E0-93CC-76B8EC8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306E-7D14-4E6A-A5AB-298EE8E8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8A61-C5E7-44EF-906B-F612CF8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97A2-4AA5-42DE-A509-E96DBF68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732C-7562-4D94-A565-E937921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6F25-3B9D-44CB-A9EA-A1BB5CE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8393-B215-479F-B10A-9B4AE01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AB21-D79F-4C5D-9988-F6E8020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4495-730E-4818-9294-81EC4D13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06A8C-0AB3-4A5E-9921-0D39F745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2465-832D-42E1-9195-9785B3E1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164-5192-40A7-915B-D383ABC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3A14-115F-479A-BBC8-B2F0AD38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AA1AF-5164-4BBA-8C88-AAFF09A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CDC0-84B1-4861-94C9-34D511B3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EBF9-25CE-42C2-BA1C-14ECC26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2CEC7-773B-4FFE-AED2-2667074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5AF3-32B1-404E-A16C-671668B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53CF-6B4D-4305-BBF8-18A6A23C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D198-9E39-46C8-8A05-1AC5AA6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90EB-ADA5-49EC-91F9-51FF73CF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9D1A6-E000-415D-8843-51458F81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60-5258-4725-B3A0-EC45100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D3C5-73C1-4E55-BB72-39760947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F5E3-9988-4DA4-84A5-70FA4E08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5E2B-D479-4DE6-A28F-4E41EFAF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47E3-32CE-449D-B364-F836704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988A2-5E3E-4311-AD9C-4DFEC6F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BE54-9DF6-43F7-81DD-A8BCB9B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947F-C016-44C2-A510-6E137A9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AEF2-14F4-4198-AAC5-A406B9F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8926-BE31-450A-A59C-6B8EA3B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6153-A72D-4F4A-9328-1E053E7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757-1B89-49D9-B874-B3AA3DB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F8F0-DA4D-4067-8E4C-1D9A46D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42C2-DFE7-4066-A820-7EC9B038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ED319-0390-47AA-8609-9AE29E3E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12C-82C5-4436-B705-91133F9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225-F811-4B42-B719-36E55B9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09B-9A30-4FE8-B73C-3635602AD0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7577-8889-4C81-B7C4-1CB2EB3F0B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B604-9551-4628-82B4-ADA0F35807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F515-4A10-4677-A168-8AD2A90AEA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84C-C289-4E37-95F5-98B0AAE40E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930-10C2-4137-94E2-55867F3B45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google.ro/imgres?imgurl=http://felicitari.sentimente.ro/index/watermark%3Fsource%3D48%257Cilbuongiornosivededalfelino.jpg&amp;imgrefurl=http://felicitari.sentimente.ro/horoscop/buna_dimineata_soare_---1397.html&amp;usg=__wMel9wdUFwWUAN8JwSsndKfE2hA=&amp;h=300&amp;w=383&amp;sz=23&amp;hl=ro&amp;start=4&amp;zoom=1&amp;um=1&amp;itbs=1&amp;tbnid=GJI4E6wMYHjt9M:&amp;tbnh=96&amp;tbnw=123&amp;prev=/images%3Fq%3Dsoare%26um%3D1%26hl%3Dro%26rlz%3D1W1ACAW_enRO319%26tbs%3Disch:1&amp;ei=nB43Td6pL8SBOsP2ld8C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agp.ro/ro/energii/imagini/moara_de_vant_pentru_irigatii.jpg&amp;imgrefurl=http://www.agp.ro/ro/energia_eoliana/&amp;usg=__09_hlS0ymnsGncOh5_AwSvZsgPA=&amp;h=500&amp;w=667&amp;sz=337&amp;hl=ro&amp;start=6&amp;zoom=1&amp;um=1&amp;itbs=1&amp;tbnid=MVOlrsqdblwxPM:&amp;tbnh=103&amp;tbnw=138&amp;prev=/images%3Fq%3Dmoara%2Bde%2Bvant%26um%3D1%26hl%3Dro%26rlz%3D1W1ACAW_enRO319%26tbs%3Disch:1&amp;ei=SSA3TZqZEMSBOtLDidIC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4/Wind_2006andprediction_en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8" descr=""/>
          <p:cNvPicPr/>
          <p:nvPr/>
        </p:nvPicPr>
        <p:blipFill>
          <a:blip r:embed="rId1"/>
          <a:stretch/>
        </p:blipFill>
        <p:spPr>
          <a:xfrm>
            <a:off x="2567160" y="2054160"/>
            <a:ext cx="3608280" cy="9748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9" descr=""/>
          <p:cNvPicPr/>
          <p:nvPr/>
        </p:nvPicPr>
        <p:blipFill>
          <a:blip r:embed="rId2"/>
          <a:stretch/>
        </p:blipFill>
        <p:spPr>
          <a:xfrm>
            <a:off x="1311120" y="2371680"/>
            <a:ext cx="6302520" cy="11826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12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4352760" cy="13046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2811240" y="5562720"/>
            <a:ext cx="35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charest 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676160" y="22860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ala cu clasele I-VI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r.186  Elena V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c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535680" y="3809880"/>
            <a:ext cx="40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udor GEORG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www.marketwatch.ro/mw/pics/images/image/mw97/Energie_eoliana.jpg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thumb31895059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9166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492480" y="0"/>
            <a:ext cx="736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renew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their supplies are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Coal, petroleum, natural g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e, uraniu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14400" y="5562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newable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naturally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iomass, geothermal energy, hydropower, solar energy, and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TextBox 3" descr=""/>
          <p:cNvPicPr/>
          <p:nvPr/>
        </p:nvPicPr>
        <p:blipFill>
          <a:blip r:embed="rId3"/>
          <a:stretch/>
        </p:blipFill>
        <p:spPr>
          <a:xfrm>
            <a:off x="1596960" y="3255840"/>
            <a:ext cx="5926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hart of Energy Consumption by Source, 2009 with biomass=4.1%, hydropower=2.8%, geothermal=0.4%, wind=0.7%, solar and other =0.1%, petroleum=37.3%, natural gas=24.7%, coal=20.9%, uranium=8.8%"/>
          <p:cNvPicPr/>
          <p:nvPr/>
        </p:nvPicPr>
        <p:blipFill>
          <a:blip r:embed="rId1"/>
          <a:stretch/>
        </p:blipFill>
        <p:spPr>
          <a:xfrm>
            <a:off x="59544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6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6632640" cy="1146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1850760" y="22107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newable energy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062240" y="31240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 by the wi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Rectangle 9" descr=""/>
          <p:cNvPicPr/>
          <p:nvPr/>
        </p:nvPicPr>
        <p:blipFill>
          <a:blip r:embed="rId2"/>
          <a:stretch/>
        </p:blipFill>
        <p:spPr>
          <a:xfrm>
            <a:off x="73080" y="3906720"/>
            <a:ext cx="2066760" cy="866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0"/>
          <p:cNvSpPr/>
          <p:nvPr/>
        </p:nvSpPr>
        <p:spPr>
          <a:xfrm>
            <a:off x="47160" y="4952880"/>
            <a:ext cx="910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ir movement due to irregular warming of Earth sur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su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3" descr="http://t0.gstatic.com/images?q=tbn:GJI4E6wMYHjt9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5791320"/>
            <a:ext cx="86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2593 0.01354 -0.01736 0.0368 -0.01389 C 0.03941 -0.01042 0.0427 -0.00764 0.04479 -0.00347 C 0.04878 0.00463 0.05086 0.02453 0.0552 0.03171 C 0.05711 0.03495 0.06059 0.03634 0.06319 0.03866 C 0.07326 0.03194 0.08281 0.02963 0.09201 0.02106 C 0.09392 0.01389 0.09809 -0.01459 0.1052 -0.02107 C 0.10816 -0.02384 0.11232 -0.02338 0.11579 -0.02454 C 0.12187 -0.02222 0.12864 -0.02153 0.1342 -0.01736 C 0.13698 -0.01528 0.13732 -0.01019 0.13941 -0.00695 C 0.14809 0.00625 0.15798 0.01759 0.16579 0.03171 C 0.17847 0.0544 0.17361 0.0544 0.19201 0.06666 C 0.20086 0.06435 0.21007 0.06435 0.2184 0.05972 C 0.22326 0.05694 0.22552 0.03958 0.22621 0.03518 C 0.22899 0.01574 0.22864 0.00231 0.2368 -0.01389 C 0.2618 -0.01227 0.29079 -0.02547 0.3052 0.00347 C 0.30607 0.00926 0.30659 0.01528 0.30781 0.02106 C 0.30937 0.02824 0.31319 0.04213 0.31319 0.04213 C 0.33611 0.03194 0.33003 0.00509 0.34479 -0.01389 C 0.36823 -0.01042 0.3802 -0.0081 0.39739 0.01412 C 0.4 0.02453 0.4026 0.03518 0.4052 0.0456 C 0.40607 0.04907 0.40694 0.05278 0.40781 0.05625 C 0.40868 0.05972 0.41041 0.06666 0.41041 0.06666 C 0.42013 0.06319 0.43003 0.06088 0.43941 0.05625 C 0.44166 0.05509 0.4427 0.05092 0.44479 0.0493 C 0.44722 0.04745 0.45 0.04676 0.4526 0.0456 C 0.45972 0.0331 0.46961 0.02361 0.47621 0.01065 C 0.48177 -0.000229999999999999 0.48524 -0.01158 0.49201 -0.02107 C 0.50763 0.00995 0.48402 -0.03912 0.5026 0.01065 C 0.50538 0.01828 0.51041 0.02407 0.51319 0.03171 C 0.52048 0.05139 0.52934 0.06342 0.54479 0.07014 C 0.55711 0.06898 0.57013 0.07268 0.58159 0.06666 C 0.58802 0.06342 0.59236 0.04444 0.59479 0.03518 C 0.59566 0.02708 0.59583 0.01875 0.59739 0.01065 C 0.59948 -0.000229999999999999 0.6052 -0.02107 0.6052 -0.02107 C 0.61041 -0.01158 0.61562 -0.00232 0.621 0.00717 C 0.62361 0.0118 0.62899 0.02106 0.62899 0.02106 C 0.63611 0.05023 0.66145 0.03148 0.68159 0.02824 C 0.69392 0.0169 0.69513 0.00926 0.7 -0.01042 C 0.70086 -0.01389 0.7026 -0.02107 0.7026 -0.02107 C 0.69913 -0.05301 0.70086 -0.0794 0.6842 -0.10162 C 0.68211 -0.11783 0.68263 -0.13218 0.67361 -0.14375 C 0.67083 -0.18056 0.67204 -0.19769 0.6526 -0.22454 C 0.64739 -0.24537 0.63941 -0.24537 0.62621 -0.25602 C 0.62083 -0.26042 0.61041 -0.27014 0.61041 -0.27014 C 0.59496 -0.2632 0.61007 -0.27084 0.58941 -0.25602 C 0.58246 -0.25116 0.5684 -0.24213 0.5684 -0.24213 C 0.56579 -0.23866 0.56284 -0.23542 0.56041 -0.23148 C 0.55833 -0.22824 0.55816 -0.22269 0.5552 -0.22107 C 0.5526 -0.21968 0.55 -0.22338 0.54739 -0.22454 C 0.53454 -0.24121 0.51979 -0.25903 0.5026 -0.26667 C 0.4802 -0.24514 0.48958 -0.25625 0.47361 -0.23496 C 0.46475 -0.21111 0.45989 -0.19028 0.4552 -0.16482 C 0.44392 -0.17222 0.43177 -0.18334 0.42361 -0.19653 C 0.42152 -0.19977 0.42048 -0.20371 0.4184 -0.20695 C 0.41423 -0.2132 0.40868 -0.21759 0.4052 -0.22454 C 0.40347 -0.22801 0.40243 -0.23241 0.4 -0.23496 C 0.39097 -0.24445 0.37725 -0.24051 0.36579 -0.24213 C 0.35781 -0.24097 0.34982 -0.24097 0.34201 -0.23843 C 0.32482 -0.23264 0.32118 -0.18009 0.3184 -0.16134 C 0.30763 -0.1831 0.29218 -0.19259 0.27621 -0.20695 C 0.27309 -0.20972 0.27066 -0.21343 0.2684 -0.21736 C 0.26458 -0.22408 0.25781 -0.23843 0.25781 -0.23843 C 0.25052 -0.26829 0.23368 -0.25463 0.21041 -0.25255 C 0.20729 -0.23982 0.20573 -0.22662 0.2026 -0.21389 C 0.20173 -0.20116 0.20104 -0.1882 0.2 -0.17547 C 0.1993 -0.16713 0.20208 -0.15602 0.19739 -0.1507 C 0.1934 -0.14607 0.1868 -0.15324 0.18159 -0.1544 C 0.17274 -0.16597 0.16788 -0.17824 0.16319 -0.19283 C 0.16163 -0.19769 0.15937 -0.20209 0.15781 -0.20695 C 0.15677 -0.21042 0.15746 -0.21528 0.1552 -0.21736 C 0.14722 -0.22408 0.13767 -0.22685 0.12899 -0.23148 C 0.11493 -0.23912 0.10468 -0.2456 0.08941 -0.24908 C 0.08507 -0.24676 0.07934 -0.24676 0.07621 -0.24213 C 0.07257 -0.23658 0.07274 -0.22801 0.071 -0.22107 C 0.07013 -0.21759 0.0684 -0.21042 0.0684 -0.21042 C 0.07118 -0.18009 0.071 -0.1919 0.071 -0.17547 E">
                                      <p:cBhvr>
                                        <p:cTn id="6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://t1.gstatic.com/images?q=tbn:MVOlrsqdblwxP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09480" y="33480"/>
            <a:ext cx="9753480" cy="682452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4" descr=""/>
          <p:cNvPicPr/>
          <p:nvPr/>
        </p:nvPicPr>
        <p:blipFill>
          <a:blip r:embed="rId3"/>
          <a:stretch/>
        </p:blipFill>
        <p:spPr>
          <a:xfrm>
            <a:off x="-201600" y="-109440"/>
            <a:ext cx="5456160" cy="7617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4054680" y="69696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Oldest Windmills Were in Ancient Per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372200" y="1182600"/>
            <a:ext cx="47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early as 5000 B.C-Wind energy propel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s along the Nile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319200" y="206856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 B.C.-simple windmills in China were pumping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3160800" y="2666880"/>
            <a:ext cx="61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rsia and the Middle East – windmills for grinding g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3823920" y="3124080"/>
            <a:ext cx="54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th century, people in the Middle East were us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mills extensively for food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3765600" y="408636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ing merchants carried this idea back to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1946880" y="480060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utch refined the windmill and adapted it for draining lak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hes in the Rhine River De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2851560" y="55627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 th century - settlers took this technology to the New Wor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2544480" y="621180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mills us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ump water for farms and ranch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electricity for homes and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18"/>
          <p:cNvSpPr/>
          <p:nvPr/>
        </p:nvSpPr>
        <p:spPr>
          <a:xfrm>
            <a:off x="6095880" y="369396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Down Arrow 19"/>
          <p:cNvSpPr/>
          <p:nvPr/>
        </p:nvSpPr>
        <p:spPr>
          <a:xfrm>
            <a:off x="6095880" y="44560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Down Arrow 20"/>
          <p:cNvSpPr/>
          <p:nvPr/>
        </p:nvSpPr>
        <p:spPr>
          <a:xfrm>
            <a:off x="5715000" y="5867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0" y="0"/>
          <a:ext cx="4329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29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HOW  DOES WIND TURBINES WOR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572000" y="1523880"/>
            <a:ext cx="457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 turbines work on the same principle as ancient windmills : the kinetic energy of the wind rotates the palettes of a propeller with transforms this kinetic energy into electricity by means of a gener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C:\My Documents\My Pictures\windrotor.gif"/>
          <p:cNvPicPr/>
          <p:nvPr/>
        </p:nvPicPr>
        <p:blipFill>
          <a:blip r:embed="rId3"/>
          <a:stretch/>
        </p:blipFill>
        <p:spPr>
          <a:xfrm>
            <a:off x="2590920" y="2819520"/>
            <a:ext cx="2395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Fișier:Wind 2006andprediction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743200" y="8366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energy production increased 5 times between 1999 and 200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the end of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2006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lds capacity of wind generators produced more than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 %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global need of electrical energ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1" descr=""/>
          <p:cNvPicPr/>
          <p:nvPr/>
        </p:nvPicPr>
        <p:blipFill>
          <a:blip r:embed="rId1"/>
          <a:stretch/>
        </p:blipFill>
        <p:spPr>
          <a:xfrm>
            <a:off x="-695160" y="-639720"/>
            <a:ext cx="4316400" cy="29192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2819520" y="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Zero emission of pollutant substances and gases with greenhouse effect because no combustion takes plac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1762200" y="971640"/>
            <a:ext cx="31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No waste are produced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57200" y="1447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duced costs for  the produced energy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68720" y="198108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reduced  costs for their dis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4920" y="25146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ffffff"/>
                </a:solidFill>
                <a:latin typeface="Arial"/>
              </a:rPr>
              <a:t>95% of the land assigned  to wind fa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ffffff"/>
                </a:solidFill>
                <a:latin typeface="Arial"/>
              </a:rPr>
              <a:t>can be also used for other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U:\Pictures\wind-switch.jpg"/>
          <p:cNvPicPr/>
          <p:nvPr/>
        </p:nvPicPr>
        <p:blipFill>
          <a:blip r:embed="rId2"/>
          <a:stretch/>
        </p:blipFill>
        <p:spPr>
          <a:xfrm>
            <a:off x="6019920" y="83808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19" descr=""/>
          <p:cNvPicPr/>
          <p:nvPr/>
        </p:nvPicPr>
        <p:blipFill>
          <a:blip r:embed="rId3"/>
          <a:stretch/>
        </p:blipFill>
        <p:spPr>
          <a:xfrm>
            <a:off x="-847800" y="2432160"/>
            <a:ext cx="5334120" cy="3346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2819520" y="3886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pollution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"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,.e. unpleasant 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is pollution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"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noisy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828800" y="46483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ffect the medium and the surrounding ecosystems , killing birds and employing huge vacant lands for their instal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457200" y="5791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damage from storms, if the wind speeds exceed the limits permitted by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228600" y="24768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ro.wikipedia.org/wiki/Energie_eolian%C4%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energie-eoliana.com/energia-eoliana-notiuni-generale-despre-energia-eoliana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237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http://www.eia.doe.gov/kids/energy.cfm?page=about_sources_of_energy-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28600" y="4038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ia.doe.gov/kids/energy.cfm?page=wind_home-bas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</cp:lastModifiedBy>
  <dcterms:modified xsi:type="dcterms:W3CDTF">2011-01-29T20:33:05Z</dcterms:modified>
  <cp:revision>51</cp:revision>
  <dc:subject/>
  <dc:title>Slide 1</dc:title>
</cp:coreProperties>
</file>